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979613" cy="3276600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8CCF-118D-400B-A9B1-624377AF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920" y="131400"/>
            <a:ext cx="1783080" cy="5461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920" y="764640"/>
            <a:ext cx="178308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920" y="1894320"/>
            <a:ext cx="178308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3FB-CA71-4A5B-808E-4CE2EC6C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920" y="131400"/>
            <a:ext cx="1783080" cy="5461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920" y="764640"/>
            <a:ext cx="87012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11960" y="764640"/>
            <a:ext cx="87012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920" y="1894320"/>
            <a:ext cx="87012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11960" y="1894320"/>
            <a:ext cx="87012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3AE7-104D-4C7B-92F1-57E5AD4F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920" y="131400"/>
            <a:ext cx="1783080" cy="5461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920" y="764640"/>
            <a:ext cx="57384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00920" y="764640"/>
            <a:ext cx="57384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03920" y="764640"/>
            <a:ext cx="57384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920" y="1894320"/>
            <a:ext cx="57384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00920" y="1894320"/>
            <a:ext cx="57384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303920" y="1894320"/>
            <a:ext cx="57384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85EF-01DE-4F4F-812F-4CFDF68D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920" y="131400"/>
            <a:ext cx="1783080" cy="5461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920" y="764640"/>
            <a:ext cx="1783080" cy="21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643-B1B3-43BE-B42A-25A88302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920" y="131400"/>
            <a:ext cx="1783080" cy="5461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920" y="764640"/>
            <a:ext cx="1783080" cy="21625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9865-9C9A-41E9-82ED-E3D558E9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920" y="131400"/>
            <a:ext cx="1783080" cy="5461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920" y="764640"/>
            <a:ext cx="870120" cy="21625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11960" y="764640"/>
            <a:ext cx="870120" cy="21625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97A-630B-406A-B271-EF8A023C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920" y="131400"/>
            <a:ext cx="1783080" cy="5461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C23A-CEE2-4428-A8D6-754E165D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920" y="131400"/>
            <a:ext cx="1783080" cy="25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3A4B-9F34-45C4-BFBB-8B76E5D1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920" y="131400"/>
            <a:ext cx="1783080" cy="5461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920" y="764640"/>
            <a:ext cx="87012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11960" y="764640"/>
            <a:ext cx="870120" cy="21625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920" y="1894320"/>
            <a:ext cx="87012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BF3-C6C9-45BF-A91E-AA867E67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920" y="131400"/>
            <a:ext cx="1783080" cy="5461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920" y="764640"/>
            <a:ext cx="870120" cy="21625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11960" y="764640"/>
            <a:ext cx="87012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11960" y="1894320"/>
            <a:ext cx="87012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58E6-C537-4C76-B16E-3CF69B93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920" y="131400"/>
            <a:ext cx="1783080" cy="5461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920" y="764640"/>
            <a:ext cx="87012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11960" y="764640"/>
            <a:ext cx="87012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920" y="1894320"/>
            <a:ext cx="1783080" cy="103140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9135-710F-43D0-A1C1-CD7FD746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920" y="131400"/>
            <a:ext cx="1783080" cy="5461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920" y="764640"/>
            <a:ext cx="1783080" cy="216252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rmAutofit fontScale="96000"/>
          </a:bodyPr>
          <a:p>
            <a:pPr marL="108000" indent="-1080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34360" indent="-8964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59640" indent="-716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504360" indent="-7164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649080" indent="-73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649080" indent="-73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649080" indent="-7308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8280" y="2984040"/>
            <a:ext cx="462240" cy="227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Autofit/>
          </a:bodyPr>
          <a:lstStyle>
            <a:lvl1pPr indent="0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76080" y="2984040"/>
            <a:ext cx="626760" cy="227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19120" y="2984040"/>
            <a:ext cx="462240" cy="227160"/>
          </a:xfrm>
          <a:prstGeom prst="rect">
            <a:avLst/>
          </a:prstGeom>
          <a:noFill/>
          <a:ln w="0">
            <a:noFill/>
          </a:ln>
        </p:spPr>
        <p:txBody>
          <a:bodyPr lIns="29880" rIns="2988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99880"/>
                <a:tab algn="l" pos="600120"/>
                <a:tab algn="l" pos="900000"/>
                <a:tab algn="l" pos="1200240"/>
                <a:tab algn="l" pos="1500120"/>
                <a:tab algn="l" pos="1800360"/>
                <a:tab algn="l" pos="2100240"/>
                <a:tab algn="l" pos="2400480"/>
                <a:tab algn="l" pos="2700360"/>
                <a:tab algn="l" pos="3000240"/>
                <a:tab algn="l" pos="3300480"/>
                <a:tab algn="l" pos="3600360"/>
                <a:tab algn="l" pos="3900600"/>
                <a:tab algn="l" pos="4200480"/>
                <a:tab algn="l" pos="4500720"/>
                <a:tab algn="l" pos="4800600"/>
                <a:tab algn="l" pos="5100480"/>
                <a:tab algn="l" pos="5400720"/>
                <a:tab algn="l" pos="5700600"/>
                <a:tab algn="l" pos="6000840"/>
              </a:tabLst>
            </a:pPr>
            <a:fld id="{0829C8C4-99EC-4C68-99CF-7DF44EBBEF2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G0321</dc:creator>
  <dc:description/>
  <dc:language>en-US</dc:language>
  <cp:lastModifiedBy>0463</cp:lastModifiedBy>
  <dcterms:modified xsi:type="dcterms:W3CDTF">2011-06-20T07:29:39Z</dcterms:modified>
  <cp:revision>3</cp:revision>
  <dc:subject/>
  <dc:title>スライド 1</dc:title>
</cp:coreProperties>
</file>