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76600" cy="19796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B7B-B760-4966-BE22-5CA0EBCC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566-65DF-40F8-89BC-C62A147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6E5-08B4-4DF3-A84A-C7D19AC0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7480" y="46152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0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7480" y="1144440"/>
            <a:ext cx="94932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382-CD95-4C75-857A-304CE230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077-256B-4E14-A2B3-094FCC6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71E-72D5-479F-9449-EB49568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B4E-8C0B-4597-AE53-2F968D9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B5F-44CE-4479-9176-4E4532E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080" y="79200"/>
            <a:ext cx="29494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A13-17C6-483D-B785-EDDED452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E1B-ED17-4682-9AFF-3D25C52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4720" y="114444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7B7-31AD-402B-A3DC-D7C9587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08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4720" y="461520"/>
            <a:ext cx="14392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080" y="1144440"/>
            <a:ext cx="2949480" cy="623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2B3-7FBF-4C33-8C93-DF640C3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79200"/>
            <a:ext cx="2949480" cy="33048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80" y="461520"/>
            <a:ext cx="2949480" cy="130644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 fontScale="92000"/>
          </a:bodyPr>
          <a:p>
            <a:pPr marL="103320" indent="-10332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4640" indent="-860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6876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483480" indent="-6876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622080" indent="-70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080" y="1803240"/>
            <a:ext cx="76356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19240" y="1803240"/>
            <a:ext cx="103824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ja-JP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9000" y="1803240"/>
            <a:ext cx="763560" cy="1368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ja-JP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fld id="{B65603DF-4470-4996-AA4B-EACD0C0A0053}" type="slidenum">
              <a:rPr b="0" lang="ja-JP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G0321</dc:creator>
  <dc:description/>
  <dc:language>en-US</dc:language>
  <cp:lastModifiedBy>0463</cp:lastModifiedBy>
  <dcterms:modified xsi:type="dcterms:W3CDTF">2011-06-20T07:47:04Z</dcterms:modified>
  <cp:revision>4</cp:revision>
  <dc:subject/>
  <dc:title>スライド 1</dc:title>
</cp:coreProperties>
</file>